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6.gif" ContentType="image/gif"/>
  <Override PartName="/ppt/media/image17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1.gif" ContentType="image/gi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EB5-8278-4D81-B3C4-EB39BE08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3D2-3F13-4C4E-BD01-7944682E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68D3B-395A-483E-8901-7715F836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AEC4A-01BA-4758-B2E9-C04D8CD3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6FA84-421D-4FCE-9F0D-ABC5712A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BD442-6522-41A8-AB5E-BFC28784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2DCF2-BE0B-4828-AE1E-45114C2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C4B1B-2B3F-474F-9AA8-68D0D22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A7A91-54C5-4E48-97EF-62E904DE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3717B-E753-4DC7-A846-B3E12155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F3F22-FBC3-499E-B4C8-83DF4D9D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0B629-4125-4B97-A0F9-0BED38BD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3DE-524B-4B88-BBDE-135791E2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AE6CD-830D-4963-BD2F-99F6E57C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1E76D-761D-4848-A9F9-76F0C6AB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27754-88CE-4239-9D95-0329FAA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1E97F-5D63-407B-B410-D4BA2A87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AF534-47B5-4BE2-9F39-DEBE2073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DE5E2-B351-4CDA-9B8F-7F56126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CC201-9A66-4E67-8A72-6F21C3AD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8EEEC-F999-4754-A266-0F7CC76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E9102-0D2E-478F-8170-656C594C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30AAE-DDAD-4B2B-9B9F-9E5ED919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F1C-B135-420A-A2D1-076AB9AD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2D691-C580-4783-9534-55718D2B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93830-AC74-4D5C-BAE5-BA739F26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F8A6E-CC7F-4659-8638-10D7170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819CA-1A8F-4C1B-A7E0-CB9457F4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DF321-9340-48FB-837C-A5798CFE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3DA5A-5553-4CC9-B539-0FDC9414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C6ED3-0F0E-4438-9B37-E3A250B2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7649D-2723-43FE-94FB-05C45855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2D97D-87D4-4A17-9334-C3976BC5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99ED2-A717-4575-85CA-37AA1482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2BE2-87CE-4430-B752-33B5D229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C0510-B486-46D4-AB97-5511E696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75BF-12FF-4622-9A63-27BC4633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6B14E-A0B8-4BFB-AC37-B0CF1FC1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C1BF5-41B1-4AC9-B9F8-D4D7D52B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623DB-FC74-4175-8955-03437D0F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2EE4F-F42C-4F5C-859E-C2BAD11A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96D07-9166-4019-802C-951DDFE1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073C2-5A45-49E6-9D9D-8ACF58B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C828F-4DA9-4B94-B8DD-09E03540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0CBAE-F8F9-4568-BE13-C739305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81A1-5122-4360-80A5-32C1C5C6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5F745-FF6F-4096-A6C6-922218E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8C996-0541-49CC-B60A-C529C28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8C7BA-2B85-4295-AD9D-7497F291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EE855-2158-4E69-825A-9755CAEC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D16D1-DCD0-444B-BE9C-87290695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CE10C-9EE0-4087-ADE4-27B9A35D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9CA88-DDF7-4860-BF02-3A4B7220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F2A82-D867-4876-8F3E-C39A4652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6EE86-6EDD-4C5E-B321-0C4168D8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10AA5-DF37-4B68-B203-84A45E6C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2A8-C558-45D3-8DD8-47AF1848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AF1F3-9AF0-4098-949C-3FB22A38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F60C8-B6BC-48FB-941C-6F042A2D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9158C-CF1D-46E7-8875-45E933D0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4FB7D-5EFC-457B-AEC2-574EC7D5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C7A53-D4AC-47F5-8203-500EB3E4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16EB8-3637-44D4-A1DA-729FE462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9EBDA-7754-4138-9948-E69B37C3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7E5C-D23E-40A4-B1DE-7E7D6C9A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BD34-D441-430B-8A59-021BD0BA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EEEE-BC0C-4AAA-BDDE-0FC4D5CD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752C-992D-4E72-96C2-1AFDDAF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E42-B487-4D00-B0C5-00CF4D00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26F7-6545-4FBF-B313-25217866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FA60-D676-4DAA-83FB-72039890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C96E-5018-4491-B9DF-D4039ADB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0E47-2D1B-4DAA-AE81-31BA59B7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D790-B5BB-4083-A2FE-3D496FB7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2861-2871-4F1C-824E-CEF4D9D3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E791-7699-413F-9395-2DE252A0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BD2A-22EB-4683-9E43-81C29EE5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B0EA-0D50-4123-8589-B7A38F1C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37AC-A20B-4239-A824-C7AB4DCA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108-35E9-4249-A6E6-736274B2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7A1F-29CE-4B8F-A78C-9A4DF9BD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2586A-534F-4D64-A69A-492CC24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ABDE-265E-4809-B848-D9C109B2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A081-A2BD-4C0E-99C8-7FF87887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4443-2527-47B7-B163-3FE1856D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60F3-3E73-42CA-A9B1-DFEBFFC1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05E69-DC81-4746-8BBB-C1821E22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CF656-2B77-4862-A4FD-750568EC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D165-3906-4825-AAE9-EEA3C93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4EDA-25D0-483E-9BA1-94FA31A9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806-A800-4AD1-8757-538BA0D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184A-EA6A-4B95-8FD7-317A5910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EFEC5-8941-40AB-9AD9-30B0DB8A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FBB5-A656-4B16-8699-2B807D59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9686-4043-40E2-ACFF-ABC52DF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6AF95-AFFF-49D3-BD5A-505DAF0B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3C196-6116-4F19-844B-EB212C84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E123-1404-4CFB-BB08-DE98556C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4A7D-8EDF-4766-8EE2-35BE8754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85C2-2925-4ACD-969D-B1319096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88545-F432-4C6D-BD9D-22F8EB0D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586-590A-4834-8347-3A112E87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98DA-A02A-4F43-9771-E26B05AF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7DC3F-771D-482B-BA12-ABF4C810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EA2B9-4FCE-4C24-AE27-CF027F5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AC32A-1412-43F7-BBB5-CDDF7EB4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06D5D-780C-4A44-93DA-531554CA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9E90-66C9-4258-9228-04A4C34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FFF25-CAB4-4B30-A1AE-845C789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AB7CD-C3BE-47A7-93D1-34BB220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6ECB4-DB64-4535-9CA1-0A53D4B4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8C22-9F81-4AB8-9FF0-ACFA38AA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557-9821-4768-826E-D55FD223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04B0-691A-4225-93B1-95D484EB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A1A93-9EBC-478E-9376-4033BA76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85DA5-2D23-48B5-8D8B-6C82070C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7D1B2-34A3-4739-8F8B-B6D4F12F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E6A4-B260-4D51-AE18-B14D548C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4CE9A-4643-4E66-BFE0-E98A5ED9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BE46-45B8-417A-BD25-766F6899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D0227-F583-4CC1-8714-905F635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75460-224B-4C05-A334-9585366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044F-47A5-4FFF-A4A7-B91797BA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7B7-9EC0-4885-B69F-DB02EFA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EE5DA-1FE3-4FB4-A30D-4980070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70417-CBE8-4469-BA7C-7D5533E1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9350F-6DB6-4FC8-ACE1-2965AF73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D5BAE-A4E8-4803-BE7A-B27C02EE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C0BB-D97C-4518-BF39-97C10220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0A450-40DE-4793-A87D-08C9B1DE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5568D-9508-4195-9D7C-1E38EEAB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5CDCB-CDC5-423D-BB70-5B997CE2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A16CD-D7D5-4FA1-B487-98C16689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5834F-97B9-4EC5-B2EB-FFF85D3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78E-F92F-42E1-8485-8D3EB0E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67DB-0DB9-4143-8871-98D5869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57285-B96F-4EA5-8A29-A8FC5142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34B72-7178-445A-8AD4-140E78AD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F6AAD-EE13-4BF4-BD92-60DBDA37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64813-5B32-40F3-BA14-897BA96D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BB261-EC26-4B17-9B7E-8F159CA6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34160-7FA8-4B26-8D86-07424E84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0A0FF-FB7A-46C3-BF2A-0243949D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EE79E-96B4-483D-BF11-417E272C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AA17B-A462-49D2-8FF4-74EE540F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529-F5CA-4750-B210-ED167051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31842-06D3-44BE-93B3-7EE3ABE7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59D15-4D33-443B-9835-0B0F21C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CC2CD-D38A-48C5-BE44-1DD9DEA4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FFD44-D4AC-45D6-B01B-601B7788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8C391-E2B5-46F6-8FB3-37EFA6CF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EB4D-20C2-4042-B9B1-86F6EA9E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69CC5-11A2-4DFB-BF17-05876691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90C96-4309-4CD6-9E9D-018912EF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AD4D0-8C01-4F70-BD5B-A820AB0F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176DF-6274-4BF4-ABA7-7313DF56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CBBB-4A8D-4A11-BA2F-EDA9A56A6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5632-5090-4A9C-91B6-99D3B26C2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CFD2-CCF7-4E7B-8D3B-64B640F80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C8AB-FD18-4FB3-A375-379575DED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7EA9-8ABF-4D96-9B08-F7531EFB9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24FE-30BC-4D2B-9A95-823309F99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884D-57B7-4093-B738-37CEB9290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C7CF-C9AB-445D-A84D-61EEFEC82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387E-8988-4F34-98CE-B1D5A5FA6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7B3-56E2-4DB7-898F-CC4F0304B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6A70-3ADF-4F73-A53D-9C19C7422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1C9-C6D6-47AC-80E3-81EB5577D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47D4-3961-4787-9142-686D1AB61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rspmartin.wikispace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bing.com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ask.com/" TargetMode="External"/><Relationship Id="rId5" Type="http://schemas.openxmlformats.org/officeDocument/2006/relationships/hyperlink" Target="http://www.dogpile.com/" TargetMode="External"/><Relationship Id="rId6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bishop.html" TargetMode="Externa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Sa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9" name="WordArt 4"/>
          <p:cNvSpPr txBox="1"/>
          <p:nvPr/>
        </p:nvSpPr>
        <p:spPr>
          <a:xfrm>
            <a:off x="2362320" y="914400"/>
            <a:ext cx="464796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th Gra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0" name="Picture 5" descr="crankylibrarian"/>
          <p:cNvPicPr/>
          <p:nvPr/>
        </p:nvPicPr>
        <p:blipFill>
          <a:blip r:embed="rId1"/>
          <a:stretch/>
        </p:blipFill>
        <p:spPr>
          <a:xfrm>
            <a:off x="152280" y="1143000"/>
            <a:ext cx="1689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slides for a Microsoft PowerPoint presentation using Internet resour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6" name="Picture 4" descr="j0232092"/>
          <p:cNvPicPr/>
          <p:nvPr/>
        </p:nvPicPr>
        <p:blipFill>
          <a:blip r:embed="rId1"/>
          <a:stretch/>
        </p:blipFill>
        <p:spPr>
          <a:xfrm>
            <a:off x="0" y="2819520"/>
            <a:ext cx="251136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3"/>
          <p:cNvSpPr/>
          <p:nvPr/>
        </p:nvSpPr>
        <p:spPr>
          <a:xfrm>
            <a:off x="0" y="20160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8" name="Text Box 4"/>
          <p:cNvSpPr/>
          <p:nvPr/>
        </p:nvSpPr>
        <p:spPr>
          <a:xfrm>
            <a:off x="380880" y="114300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and"/>
                <a:ea typeface="Times New Roman"/>
              </a:rPr>
              <a:t>Create Paint document using a tool palette; edit, save, and insert into Word or PowerPoint documen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29" name="Object 5"/>
          <p:cNvGraphicFramePr/>
          <p:nvPr/>
        </p:nvGraphicFramePr>
        <p:xfrm>
          <a:off x="6019920" y="3352680"/>
          <a:ext cx="16002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352680"/>
                    <a:ext cx="16002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rious spreadsheets in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Microsoft Excel enter valu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els,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formulas, and crea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a graph from dat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32" name="Object 4"/>
          <p:cNvGraphicFramePr/>
          <p:nvPr/>
        </p:nvGraphicFramePr>
        <p:xfrm>
          <a:off x="5029200" y="3352680"/>
          <a:ext cx="4114800" cy="22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52680"/>
                    <a:ext cx="41148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4" name=""/>
          <p:cNvGraphicFramePr/>
          <p:nvPr/>
        </p:nvGraphicFramePr>
        <p:xfrm>
          <a:off x="0" y="-1676520"/>
          <a:ext cx="8991720" cy="632628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660680"/>
                <a:gridCol w="1693800"/>
                <a:gridCol w="228456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io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ay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rch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pril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y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June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Baer, Jos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rowley, Pau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Howell, Meg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Lagam, Me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harr, Sloa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ousa, Be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eam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B5:B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C5:C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D5:D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E5:E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eam Ave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B5:B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C5:C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D5:D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E5:E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a Microsoft Access databa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edit, sort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at and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creat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els, etc.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rcRect l="11669" t="21110" r="19170" b="15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Microsoft Publisher docume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9" name="Picture 4" descr="j0215217"/>
          <p:cNvPicPr/>
          <p:nvPr/>
        </p:nvPicPr>
        <p:blipFill>
          <a:blip r:embed="rId1"/>
          <a:stretch/>
        </p:blipFill>
        <p:spPr>
          <a:xfrm>
            <a:off x="5943600" y="3962520"/>
            <a:ext cx="1976400" cy="20336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5" descr="j0285636"/>
          <p:cNvPicPr/>
          <p:nvPr/>
        </p:nvPicPr>
        <p:blipFill>
          <a:blip r:embed="rId2"/>
          <a:stretch/>
        </p:blipFill>
        <p:spPr>
          <a:xfrm>
            <a:off x="380880" y="533520"/>
            <a:ext cx="1814760" cy="16048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6" descr="j0238147"/>
          <p:cNvPicPr/>
          <p:nvPr/>
        </p:nvPicPr>
        <p:blipFill>
          <a:blip r:embed="rId3"/>
          <a:stretch/>
        </p:blipFill>
        <p:spPr>
          <a:xfrm>
            <a:off x="3352680" y="533520"/>
            <a:ext cx="2549520" cy="16412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7" descr="MCj02868330000[1]"/>
          <p:cNvPicPr/>
          <p:nvPr/>
        </p:nvPicPr>
        <p:blipFill>
          <a:blip r:embed="rId4"/>
          <a:stretch/>
        </p:blipFill>
        <p:spPr>
          <a:xfrm>
            <a:off x="1676520" y="3962520"/>
            <a:ext cx="155556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Save and retrieve information appropriately from personal folder or web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4" name="Picture 4" descr="j0237458"/>
          <p:cNvPicPr/>
          <p:nvPr/>
        </p:nvPicPr>
        <p:blipFill>
          <a:blip r:embed="rId1"/>
          <a:stretch/>
        </p:blipFill>
        <p:spPr>
          <a:xfrm>
            <a:off x="5257800" y="4191120"/>
            <a:ext cx="2478240" cy="22190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5" descr="j0285456"/>
          <p:cNvPicPr/>
          <p:nvPr/>
        </p:nvPicPr>
        <p:blipFill>
          <a:blip r:embed="rId2"/>
          <a:stretch/>
        </p:blipFill>
        <p:spPr>
          <a:xfrm>
            <a:off x="1219320" y="32004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Box 1"/>
          <p:cNvSpPr/>
          <p:nvPr/>
        </p:nvSpPr>
        <p:spPr>
          <a:xfrm>
            <a:off x="304920" y="380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Use free downloadable software and  web 2.0 tools  when appropriate to enhance learning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Box 2"/>
          <p:cNvSpPr/>
          <p:nvPr/>
        </p:nvSpPr>
        <p:spPr>
          <a:xfrm>
            <a:off x="1295280" y="380880"/>
            <a:ext cx="6782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cratch – animation progra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dacity – Sound Recorder – maximum of 8 overlapping soun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x Type/Pai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gl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th – virtual 3 D map of Ear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cs  - offer free use of word processing, spreadsheet and  presentation  software (only for students with email addres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Box 1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e5"/>
                </a:solidFill>
                <a:latin typeface="Arial"/>
                <a:ea typeface="Arial"/>
              </a:rPr>
              <a:t>Visit my website a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  <a:hlinkClick r:id="rId1"/>
              </a:rPr>
              <a:t>http://mrspmartin.wikispaces.com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2" name="Picture 4" descr=""/>
          <p:cNvPicPr/>
          <p:nvPr/>
        </p:nvPicPr>
        <p:blipFill>
          <a:blip r:embed="rId2"/>
          <a:srcRect l="0" t="0" r="10982" b="0"/>
          <a:stretch/>
        </p:blipFill>
        <p:spPr>
          <a:xfrm>
            <a:off x="0" y="1295280"/>
            <a:ext cx="9144000" cy="57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e and reinforc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sic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kill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Learn about search engines on the Internet to narrow down a topic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685800" y="83808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Yaho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1" name="Text Box 5"/>
          <p:cNvSpPr/>
          <p:nvPr/>
        </p:nvSpPr>
        <p:spPr>
          <a:xfrm>
            <a:off x="2590920" y="609480"/>
            <a:ext cx="32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B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2" name="Text Box 6"/>
          <p:cNvSpPr/>
          <p:nvPr/>
        </p:nvSpPr>
        <p:spPr>
          <a:xfrm>
            <a:off x="3124080" y="1828800"/>
            <a:ext cx="266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3"/>
              </a:rPr>
              <a:t>Goog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3" name="Text Box 9"/>
          <p:cNvSpPr/>
          <p:nvPr/>
        </p:nvSpPr>
        <p:spPr>
          <a:xfrm>
            <a:off x="6095880" y="114300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4"/>
              </a:rPr>
              <a:t>Askjee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4" name="Text Box 10"/>
          <p:cNvSpPr/>
          <p:nvPr/>
        </p:nvSpPr>
        <p:spPr>
          <a:xfrm>
            <a:off x="5029200" y="5410080"/>
            <a:ext cx="228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5"/>
              </a:rPr>
              <a:t>Dogpi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Investigate the validity of information presented in Web sit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ite references from electronic sour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7" name="Line 11"/>
          <p:cNvSpPr/>
          <p:nvPr/>
        </p:nvSpPr>
        <p:spPr>
          <a:xfrm flipH="1">
            <a:off x="6248160" y="13716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58" name="Group 13"/>
          <p:cNvGrpSpPr/>
          <p:nvPr/>
        </p:nvGrpSpPr>
        <p:grpSpPr>
          <a:xfrm>
            <a:off x="533520" y="609480"/>
            <a:ext cx="7619400" cy="2577960"/>
            <a:chOff x="533520" y="609480"/>
            <a:chExt cx="7619400" cy="2577960"/>
          </a:xfrm>
        </p:grpSpPr>
        <p:sp>
          <p:nvSpPr>
            <p:cNvPr id="1159" name="Rectangle 4"/>
            <p:cNvSpPr/>
            <p:nvPr/>
          </p:nvSpPr>
          <p:spPr>
            <a:xfrm>
              <a:off x="1461240" y="1523880"/>
              <a:ext cx="6128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emelson-MIT Program,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Hazel Bishop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, January 18, 200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99"/>
                  </a:solidFill>
                  <a:uFillTx/>
                  <a:latin typeface="Comic Sans MS"/>
                  <a:hlinkClick r:id="rId1"/>
                </a:rPr>
                <a:t>http://web.mit.edu/invent/iow/bishop.html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0" name="Text Box 5"/>
            <p:cNvSpPr/>
            <p:nvPr/>
          </p:nvSpPr>
          <p:spPr>
            <a:xfrm>
              <a:off x="533520" y="609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Corporation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1" name="Text Box 6"/>
            <p:cNvSpPr/>
            <p:nvPr/>
          </p:nvSpPr>
          <p:spPr>
            <a:xfrm>
              <a:off x="4190760" y="76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title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2" name="Text Box 7"/>
            <p:cNvSpPr/>
            <p:nvPr/>
          </p:nvSpPr>
          <p:spPr>
            <a:xfrm>
              <a:off x="6172200" y="99036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Dat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accessed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3" name="Text Box 8"/>
            <p:cNvSpPr/>
            <p:nvPr/>
          </p:nvSpPr>
          <p:spPr>
            <a:xfrm>
              <a:off x="2514600" y="2819160"/>
              <a:ext cx="28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Internet addres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4" name="Line 9"/>
            <p:cNvSpPr/>
            <p:nvPr/>
          </p:nvSpPr>
          <p:spPr>
            <a:xfrm>
              <a:off x="1676160" y="990360"/>
              <a:ext cx="68544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5" name="Line 10"/>
            <p:cNvSpPr/>
            <p:nvPr/>
          </p:nvSpPr>
          <p:spPr>
            <a:xfrm>
              <a:off x="4572000" y="1066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V="1">
              <a:off x="3352680" y="2285640"/>
              <a:ext cx="53316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The knowledge gained from these objectives will be used in student created projects and presentation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tudents will apply these principles to other subject areas. We want to make computers an enjoyable learning experience for all studen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Students are expected to follow the classroom expectations a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viously reviewed in class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9" name="Picture 4" descr="j0311866"/>
          <p:cNvPicPr/>
          <p:nvPr/>
        </p:nvPicPr>
        <p:blipFill>
          <a:blip r:embed="rId1"/>
          <a:stretch/>
        </p:blipFill>
        <p:spPr>
          <a:xfrm>
            <a:off x="3581280" y="4724280"/>
            <a:ext cx="18147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uter Education</a:t>
            </a:r>
            <a:br>
              <a:rPr sz="4000"/>
            </a:br>
            <a:br>
              <a:rPr sz="40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Teach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Mrs. Mart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2743200" y="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sit my website a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mrspmartin.wikispaces.co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22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The Following Objectives Will Be Covered This Year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304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Complet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yping </a:t>
            </a:r>
            <a:br>
              <a:rPr sz="40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to a level later to be determin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7" name="j0289582.jpg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5084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9" name="Picture 3" descr=""/>
          <p:cNvPicPr/>
          <p:nvPr/>
        </p:nvPicPr>
        <p:blipFill>
          <a:blip r:embed="rId1"/>
          <a:srcRect l="18336" t="17778" r="18336" b="17778"/>
          <a:stretch/>
        </p:blipFill>
        <p:spPr>
          <a:xfrm>
            <a:off x="304920" y="114480"/>
            <a:ext cx="8610480" cy="65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2"/>
          <p:cNvSpPr/>
          <p:nvPr/>
        </p:nvSpPr>
        <p:spPr>
          <a:xfrm>
            <a:off x="0" y="83808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and"/>
                <a:ea typeface="Times New Roman"/>
              </a:rPr>
              <a:t>Become acquainted with ribbons in Microsoft Word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Microsoft Word </a:t>
            </a:r>
            <a:br>
              <a:rPr sz="4400"/>
            </a:b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processing docume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following </a:t>
            </a:r>
            <a:br>
              <a:rPr sz="4400"/>
            </a:b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specific written directions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2" name="Picture 4" descr="MCj02325870000[1]"/>
          <p:cNvPicPr/>
          <p:nvPr/>
        </p:nvPicPr>
        <p:blipFill>
          <a:blip r:embed="rId1"/>
          <a:stretch/>
        </p:blipFill>
        <p:spPr>
          <a:xfrm>
            <a:off x="5181480" y="3505320"/>
            <a:ext cx="33814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PowerPoi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lide show using toolbars, inserting textboxes, pictures, and formatting slid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4" name="Picture 6" descr="j0283804"/>
          <p:cNvPicPr/>
          <p:nvPr/>
        </p:nvPicPr>
        <p:blipFill>
          <a:blip r:embed="rId1"/>
          <a:stretch/>
        </p:blipFill>
        <p:spPr>
          <a:xfrm>
            <a:off x="4724280" y="4191120"/>
            <a:ext cx="1943280" cy="17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6:57:03Z</dcterms:created>
  <dc:creator>PMartin</dc:creator>
  <dc:description/>
  <dc:language>en-US</dc:language>
  <cp:lastModifiedBy>Patricia Martin</cp:lastModifiedBy>
  <dcterms:modified xsi:type="dcterms:W3CDTF">2012-08-20T01:42:05Z</dcterms:modified>
  <cp:revision>33</cp:revision>
  <dc:subject/>
  <dc:title>     </dc:title>
</cp:coreProperties>
</file>